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478-DD4F-4528-B870-F8822ABD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380-8A51-4C9A-AB51-8BC35140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5A8D-E9E9-408C-83E4-F98FA54F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E12-057B-46AE-B7AE-6044D3B7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F5E8-2B02-4941-AAD4-528F7DE3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62C1-4F22-48A2-A89E-643D14B0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7380-9B47-4EE9-9E2D-62A01455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3714-0555-452E-832D-60030C53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87FB-D602-4FD3-A1BB-79035921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3210-867E-4A0B-8622-CDD8105E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41B6-82E1-4CBE-AEE5-9D4E7812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CE8-5D9F-4A4D-ACD6-986A9885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7816-F321-4DB0-918B-F4E33E6B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0086-1B8A-4A3D-9C0B-F0A05029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2145-E41F-43F8-9A2E-1D10EA40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50A8-B005-4B70-9633-E64311C5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4609-6C98-4BA1-BE6E-AA8529F4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924-BEA8-4E24-A69F-1CE0CC78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71C-603D-4F6C-BD17-B3B1EE1F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82D-0C9B-40B3-80CC-05088791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FC1-8881-4385-8424-7362E41F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3DE-0D4B-4CC5-B8FB-5B98C7D0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350-BE0F-4106-A653-95DDAD6C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3D3-4DCD-4265-ABD7-0BFEAF5B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B4AE-FE8A-4DFA-950A-3EF959423FFD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85A1-BA8F-4EAA-8926-90385BF189B8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Eastern Campaig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are not using the army, I should like to borrow it for a short while.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resident Linco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George B. McClella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st Point Graduate (184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 recruiter &amp; tr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name:  Little Mac or Young Napo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l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verestim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rength of opposing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he Peninsula Campaign (1862)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Take Richm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Clellan moves more than 100,000 men via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to outflank the Confede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ty:  McClellan slow to move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Yorktown &amp; Seven Pines (1862)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Clellan chose to lay siege to Yorktown, causes disagreement with Linco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 General Joseph E. Johnston decides to attack McClella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vent him from reaching Richm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ston wounded…later replaced by Robert E. L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 ordered a halt to fighting.  (Why is this a smart move by Lee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even Days</a:t>
            </a:r>
            <a:r>
              <a:rPr b="0" i="1" lang="ja-JP" sz="4000" spc="-1" strike="noStrike">
                <a:solidFill>
                  <a:srgbClr val="482400"/>
                </a:solidFill>
                <a:latin typeface="Times New Roman"/>
              </a:rPr>
              <a:t>’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 Campaign (June 25</a:t>
            </a:r>
            <a:r>
              <a:rPr b="0" i="1" lang="en-US" sz="4000" spc="-1" strike="noStrike" baseline="30000">
                <a:solidFill>
                  <a:srgbClr val="482400"/>
                </a:solidFill>
                <a:latin typeface="Times New Roman"/>
              </a:rPr>
              <a:t>th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 to July 1</a:t>
            </a:r>
            <a:r>
              <a:rPr b="0" i="1" lang="en-US" sz="4000" spc="-1" strike="noStrike" baseline="30000">
                <a:solidFill>
                  <a:srgbClr val="482400"/>
                </a:solidFill>
                <a:latin typeface="Times New Roman"/>
              </a:rPr>
              <a:t>st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 1862)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e sent Jeb Stuart to scout McClellan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rmy and position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ares Little M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e forces McClellan to ret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coln removes McClellan as top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regains momentum in the Eastern Th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8:57Z</dcterms:created>
  <dc:creator>Robert G. Finkbeiner</dc:creator>
  <dc:description/>
  <dc:language>en-US</dc:language>
  <cp:lastModifiedBy>PA Department of Education Classrooms for the Future</cp:lastModifiedBy>
  <dcterms:modified xsi:type="dcterms:W3CDTF">2011-12-07T19:44:39Z</dcterms:modified>
  <cp:revision>32</cp:revision>
  <dc:subject/>
  <dc:title>Eastern Campaigns</dc:title>
</cp:coreProperties>
</file>